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BAC1-C751-4650-AD13-0B4C088D46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亮亮图文旗舰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s://liangliangtuwen.tmal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C294-F2AA-460B-9706-1A1BD53A8D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100-DC57-4A55-8AB9-7E613F5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9FD-638A-4076-891F-D63C08B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4E0B4-8C86-4517-AE92-A6BA1CC2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0DF58-5941-4238-BE18-AB32D7C5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DDEC6-7F1D-46B3-B9ED-46BEC2DA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1C6B1-624F-404B-92D8-764766FC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A1B15-D6DA-4E3E-B920-7446E0E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3E1FF-853A-4E8F-8848-DE50B1E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95F75-61E6-484F-AC65-DD56F97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9BBB-D173-47DE-B2B0-0AA747D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85AC1-4F8F-43E3-8C5A-D9F24E07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89327-D472-44B6-BAEB-26C66462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8A3-7806-4AC0-AE07-349E63CA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A4C8C-5EF8-485C-8CA7-E2622C2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A670F-EC1F-491B-A1BA-ABC908F2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76BAE-807F-4F15-99A6-BADBADD1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F67CF-F296-4D1D-9AD1-BFBEE334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BE355-62EB-4C04-A830-530697D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39785-E411-4BFD-98F1-212BDB5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D662B-2BC0-4D1E-BB81-E8E29B36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E7B97-885D-460D-8900-1BD7395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BF4C2-79AC-440C-8F94-BADD66EA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D135A-7B6D-42A4-B7D4-BEEFA346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E0D-960A-4E25-9DFD-D9EC5F97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B26B-FE23-4E04-B368-BF604E02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487BA-EC56-40AA-8CA1-7F5D40A1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0679-D9DB-4EAF-8561-64AB4D3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80672-624C-4B20-82E6-0442E95B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D23C-0707-4379-9F01-262C8A40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31B2-FA3E-4737-8726-CC8C389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A3E36-0EE6-45EB-9227-751A270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E7570-8BD0-43B3-8106-14ABDD0A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46C17-9D2B-4B27-94D2-155AC40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A22B-1CB9-42E7-89AE-610EC0A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3BD-9189-41ED-AC0D-E091C48B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C6A6D-0B8E-4861-8F14-4C1EB99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944C-1916-4A00-A16D-78BDFA02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2764-430D-40F9-8888-66C496A8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C7307-E0EE-4CA1-BE27-499E9C82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6A78-5B3F-481C-8F8C-9CC769C4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16E1A-3242-451C-9C20-786ED697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2A506-125C-4CFE-82FB-BF741DC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7615D-ABE2-44CF-91E1-D5313A7C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48352-FFBA-439B-8378-C914462C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2C11E-96F4-409B-AEEB-1C53558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EF69-6D93-4548-9AD8-03AF5CA5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FDAF2-D445-41BC-B0B8-DFC09AF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3AB9-B7C9-44DC-A3DF-F1FE05B7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1B8E8-07DF-4ED4-AD0D-BC431DAB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5C094-1DBE-48E7-B211-BA1417B8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BCD1-D6C2-4B0C-BD85-FEE25E7A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6E91-680B-46E3-A1FF-5F5B390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4B1-FBAC-4E0E-8AD7-C768D2C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040-E39A-4D94-B254-C532538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C2F9-8743-46DB-836A-8410A68E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309B-285F-4675-998A-F7242E80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916-2F80-45D7-BD7D-CB95384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E51F-F52C-42E0-BF62-E7A0BA0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D85C-308E-42E5-B824-E197535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549F-FBD8-4CEA-95A5-32E91EC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203-0772-4F32-BC79-3873A0F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667F-D394-4778-9A8F-751D451F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6F58-B381-455D-B742-A11C51C0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91C5-158C-41D1-9D41-0231ABE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3B2E-0D52-465F-9DE8-BB0DB04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32F2-5F62-4A3B-9F92-D83A5A49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EF17-01F7-4DC6-AD9C-7610C77A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BA1-D537-40A7-AB40-AFA09BE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B5BB-5648-4975-81DB-4768ACD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4BF3-BDA2-44AA-9591-23C381C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ACA3-3415-4637-BB1E-2981F95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E1A5-F7AA-4338-8405-7E03820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2D06-5879-45CE-A5F1-8797B92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B1E9-D7CA-4610-9963-1EA87370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BD7D-902B-46AC-9364-0D031977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DF1F-3A77-46B9-ABD8-2147044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3713-A891-4AAA-8AEB-793FD045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C95B-00D7-4F0D-AB5A-2EEC7EEE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815-DE64-4D54-B2CE-82A720B0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985F-C68F-40C3-B845-174807AA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BFE0-D3F8-48D3-87DC-045759AC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A82B-4FA8-4029-9C06-BA92A24B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483F-BF35-4320-9A85-B789600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BC52-EC9B-4804-8CE6-84148F5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85A4-10C9-47EF-B3A6-35DCED3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8395-190E-4D68-A95E-7EDA71D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0FE6-D266-43CA-86C0-B32B6D38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67CA-D810-460E-9A5E-BD736706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9687-CD3B-4E50-BB15-5B9429F8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6F0-324D-49F3-AC6C-0D67A0A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015C-8E53-49C4-962D-455E2A29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D89C-92DC-4EB6-97B1-7F2D4A9C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8316-9910-4D5C-866F-C3599045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AF8F-4D36-4F9A-BEFB-48A1DEB7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D1E7-77A3-46C9-9671-7F2BC6F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28E7-34AA-44F6-92C8-98F7F986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19A4-DE91-4779-8EEC-DA3FD85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817B8-3B7E-47F7-9CF3-5DC9A3F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BB979-9C2A-4545-B7D9-DC69A62C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452D-3FD2-4E67-8C8C-80AFC753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F77-1070-4153-82E6-ED2B253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002C-3E97-4195-B68D-F77B81A9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0AF37-EFBD-4623-9D4C-31C29D26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3E85-EAD3-452E-9A8A-A376EA6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DD89-4090-4812-80C4-40A81124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9E82-C5F5-4D26-8DDF-1B2A69C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912E-A2FE-451E-8481-5567C76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E984-8ABE-429C-ACD2-40EBEB88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F7D0-0B15-4F37-8FB9-7FD0199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F690-D15C-4647-99C8-4E66AA6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66F9-5F19-4ADB-AFBB-6B4BF6D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D7D-0A01-4702-8A87-2FF3467B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4C07-D2A2-4CC1-B879-1F14EACC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79D7-EB47-481A-8D11-10EF0FF1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3AD2-CFB7-46B0-B386-B028497C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8478-6422-4C02-A5F9-DCEB46D2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76FE-9618-4DE5-9BCF-61A552B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11E5-DD0F-4E51-A411-10744E3B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AA15-1F87-41DB-BEBF-DBF6E497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53E87-CBD3-488C-9360-3AF3C09A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5A89-9626-411A-93A3-D3C6360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64DB-EB12-4BE0-A41D-9142241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A28-0CD5-4FC2-8B7F-A5B7673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08D40-1B00-4F60-B93D-3231ECD4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AA78-CEF9-4D92-BCB7-4E9D35AC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DBAF3-929A-496D-9BF1-B8E6CE1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A35E-95E2-4502-B526-2821AADE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9B22-69C8-457C-9575-986BA954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0DED-A1B8-43BC-8B41-0CA5EA9E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F0C6-701A-473D-A751-0FF98903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C0F1-4AFE-4A23-A29E-D195C81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8DF0-722F-4B11-A7C8-E9EF935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DD33-38B9-4F48-8671-1A90C67C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B69-EFE4-481D-8863-2650A7C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8029B-C4DD-453E-97FA-170CA82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F0BE-FAF7-4CB4-9153-6CF9F27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B55D0-87C9-4815-BFCB-ED1EA1F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D067-3FE5-4614-A4D0-64562F7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1BDA-0CBD-4668-8FEF-28FD77DD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87C53-8E87-486F-979D-930EF9C4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6F49D-5DBE-465E-AA9B-23CDEB69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C3A4D-9E54-4CA8-89F4-9A27BCDA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D44E1-56B8-4565-BA70-9DBD7049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4CC16-382F-47B4-9D6F-BA5811A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10E1-B7C0-4095-B036-A0C74CB4F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6EDD-C482-4270-9B4B-4EDDAB7A8E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9DE-6E83-484A-9CA6-7A3FD8F81A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670-3449-4AD0-91B6-B7268D61A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FE45-1794-40DF-8FD6-7F5B3545C8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46EF-1433-4F1F-A66E-2AEFD055E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74C-B90B-45FE-A2D0-BC438C0A3A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D158-2E73-4218-93FB-638AB59B0A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F794-3F6C-4B4D-94FA-E5E6779474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E9D-7389-441A-841D-D0D7D1476B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2E1D-8E36-4E87-A5C6-7824A6E3A5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5C1-4338-4AB1-95D2-CDCAD36F57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1"/>
          <p:cNvSpPr/>
          <p:nvPr/>
        </p:nvSpPr>
        <p:spPr>
          <a:xfrm>
            <a:off x="5562720" y="2819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礼物树</a:t>
            </a:r>
            <a:r>
              <a:rPr b="1" lang="en-US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PPT</a:t>
            </a:r>
            <a:r>
              <a:rPr b="1" lang="zh-CN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600200" y="1295280"/>
            <a:ext cx="6008760" cy="932400"/>
            <a:chOff x="1600200" y="1295280"/>
            <a:chExt cx="6008760" cy="932400"/>
          </a:xfrm>
        </p:grpSpPr>
        <p:grpSp>
          <p:nvGrpSpPr>
            <p:cNvPr id="501" name="Group 3"/>
            <p:cNvGrpSpPr/>
            <p:nvPr/>
          </p:nvGrpSpPr>
          <p:grpSpPr>
            <a:xfrm>
              <a:off x="1600200" y="1295280"/>
              <a:ext cx="6008760" cy="932400"/>
              <a:chOff x="1600200" y="1295280"/>
              <a:chExt cx="6008760" cy="932400"/>
            </a:xfrm>
          </p:grpSpPr>
          <p:grpSp>
            <p:nvGrpSpPr>
              <p:cNvPr id="502" name="Group 4"/>
              <p:cNvGrpSpPr/>
              <p:nvPr/>
            </p:nvGrpSpPr>
            <p:grpSpPr>
              <a:xfrm>
                <a:off x="1600200" y="1295280"/>
                <a:ext cx="6008760" cy="838440"/>
                <a:chOff x="1600200" y="1295280"/>
                <a:chExt cx="6008760" cy="838440"/>
              </a:xfrm>
            </p:grpSpPr>
            <p:sp>
              <p:nvSpPr>
                <p:cNvPr id="503" name="圆角矩形 2"/>
                <p:cNvSpPr/>
                <p:nvPr/>
              </p:nvSpPr>
              <p:spPr>
                <a:xfrm>
                  <a:off x="2122200" y="1419120"/>
                  <a:ext cx="548676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椭圆 1"/>
                <p:cNvSpPr/>
                <p:nvPr/>
              </p:nvSpPr>
              <p:spPr>
                <a:xfrm>
                  <a:off x="1600200" y="1295280"/>
                  <a:ext cx="838080" cy="83844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Box 11"/>
              <p:cNvSpPr/>
              <p:nvPr/>
            </p:nvSpPr>
            <p:spPr>
              <a:xfrm>
                <a:off x="2797200" y="1523880"/>
                <a:ext cx="4408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亮亮图文旗舰店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https://liangliangtuwen.tmall.c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Box 6"/>
            <p:cNvSpPr/>
            <p:nvPr/>
          </p:nvSpPr>
          <p:spPr>
            <a:xfrm>
              <a:off x="1811160" y="1465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9"/>
          <p:cNvGrpSpPr/>
          <p:nvPr/>
        </p:nvGrpSpPr>
        <p:grpSpPr>
          <a:xfrm>
            <a:off x="1600200" y="2362320"/>
            <a:ext cx="6008760" cy="838080"/>
            <a:chOff x="1600200" y="2362320"/>
            <a:chExt cx="6008760" cy="838080"/>
          </a:xfrm>
        </p:grpSpPr>
        <p:grpSp>
          <p:nvGrpSpPr>
            <p:cNvPr id="508" name="Group 10"/>
            <p:cNvGrpSpPr/>
            <p:nvPr/>
          </p:nvGrpSpPr>
          <p:grpSpPr>
            <a:xfrm>
              <a:off x="1600200" y="2362320"/>
              <a:ext cx="6008760" cy="838080"/>
              <a:chOff x="1600200" y="2362320"/>
              <a:chExt cx="6008760" cy="838080"/>
            </a:xfrm>
          </p:grpSpPr>
          <p:grpSp>
            <p:nvGrpSpPr>
              <p:cNvPr id="509" name="Group 11"/>
              <p:cNvGrpSpPr/>
              <p:nvPr/>
            </p:nvGrpSpPr>
            <p:grpSpPr>
              <a:xfrm>
                <a:off x="1600200" y="2362320"/>
                <a:ext cx="6008760" cy="838080"/>
                <a:chOff x="1600200" y="2362320"/>
                <a:chExt cx="6008760" cy="838080"/>
              </a:xfrm>
            </p:grpSpPr>
            <p:sp>
              <p:nvSpPr>
                <p:cNvPr id="510" name="圆角矩形 24"/>
                <p:cNvSpPr/>
                <p:nvPr/>
              </p:nvSpPr>
              <p:spPr>
                <a:xfrm>
                  <a:off x="2122200" y="2486160"/>
                  <a:ext cx="548676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25"/>
                <p:cNvSpPr/>
                <p:nvPr/>
              </p:nvSpPr>
              <p:spPr>
                <a:xfrm>
                  <a:off x="1600200" y="2362320"/>
                  <a:ext cx="838080" cy="83808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TextBox 23"/>
              <p:cNvSpPr/>
              <p:nvPr/>
            </p:nvSpPr>
            <p:spPr>
              <a:xfrm>
                <a:off x="2797200" y="259092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21"/>
            <p:cNvSpPr/>
            <p:nvPr/>
          </p:nvSpPr>
          <p:spPr>
            <a:xfrm>
              <a:off x="1811160" y="253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6"/>
          <p:cNvGrpSpPr/>
          <p:nvPr/>
        </p:nvGrpSpPr>
        <p:grpSpPr>
          <a:xfrm>
            <a:off x="1600200" y="3429000"/>
            <a:ext cx="6008760" cy="838080"/>
            <a:chOff x="1600200" y="3429000"/>
            <a:chExt cx="6008760" cy="838080"/>
          </a:xfrm>
        </p:grpSpPr>
        <p:grpSp>
          <p:nvGrpSpPr>
            <p:cNvPr id="515" name="Group 17"/>
            <p:cNvGrpSpPr/>
            <p:nvPr/>
          </p:nvGrpSpPr>
          <p:grpSpPr>
            <a:xfrm>
              <a:off x="1600200" y="3429000"/>
              <a:ext cx="6008760" cy="838080"/>
              <a:chOff x="1600200" y="3429000"/>
              <a:chExt cx="6008760" cy="838080"/>
            </a:xfrm>
          </p:grpSpPr>
          <p:grpSp>
            <p:nvGrpSpPr>
              <p:cNvPr id="516" name="Group 18"/>
              <p:cNvGrpSpPr/>
              <p:nvPr/>
            </p:nvGrpSpPr>
            <p:grpSpPr>
              <a:xfrm>
                <a:off x="1600200" y="3429000"/>
                <a:ext cx="6008760" cy="838080"/>
                <a:chOff x="1600200" y="3429000"/>
                <a:chExt cx="6008760" cy="838080"/>
              </a:xfrm>
            </p:grpSpPr>
            <p:sp>
              <p:nvSpPr>
                <p:cNvPr id="517" name="圆角矩形 31"/>
                <p:cNvSpPr/>
                <p:nvPr/>
              </p:nvSpPr>
              <p:spPr>
                <a:xfrm>
                  <a:off x="2122200" y="3552840"/>
                  <a:ext cx="548676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32"/>
                <p:cNvSpPr/>
                <p:nvPr/>
              </p:nvSpPr>
              <p:spPr>
                <a:xfrm>
                  <a:off x="1600200" y="3429000"/>
                  <a:ext cx="838080" cy="83808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TextBox 30"/>
              <p:cNvSpPr/>
              <p:nvPr/>
            </p:nvSpPr>
            <p:spPr>
              <a:xfrm>
                <a:off x="2797200" y="365760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Box 28"/>
            <p:cNvSpPr/>
            <p:nvPr/>
          </p:nvSpPr>
          <p:spPr>
            <a:xfrm>
              <a:off x="1811160" y="3598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3"/>
          <p:cNvGrpSpPr/>
          <p:nvPr/>
        </p:nvGrpSpPr>
        <p:grpSpPr>
          <a:xfrm>
            <a:off x="1600200" y="4495680"/>
            <a:ext cx="6008760" cy="838440"/>
            <a:chOff x="1600200" y="4495680"/>
            <a:chExt cx="6008760" cy="838440"/>
          </a:xfrm>
        </p:grpSpPr>
        <p:grpSp>
          <p:nvGrpSpPr>
            <p:cNvPr id="522" name="Group 24"/>
            <p:cNvGrpSpPr/>
            <p:nvPr/>
          </p:nvGrpSpPr>
          <p:grpSpPr>
            <a:xfrm>
              <a:off x="1600200" y="4495680"/>
              <a:ext cx="6008760" cy="838440"/>
              <a:chOff x="1600200" y="4495680"/>
              <a:chExt cx="6008760" cy="838440"/>
            </a:xfrm>
          </p:grpSpPr>
          <p:grpSp>
            <p:nvGrpSpPr>
              <p:cNvPr id="523" name="Group 25"/>
              <p:cNvGrpSpPr/>
              <p:nvPr/>
            </p:nvGrpSpPr>
            <p:grpSpPr>
              <a:xfrm>
                <a:off x="1600200" y="4495680"/>
                <a:ext cx="6008760" cy="838440"/>
                <a:chOff x="1600200" y="4495680"/>
                <a:chExt cx="6008760" cy="838440"/>
              </a:xfrm>
            </p:grpSpPr>
            <p:sp>
              <p:nvSpPr>
                <p:cNvPr id="524" name="圆角矩形 38"/>
                <p:cNvSpPr/>
                <p:nvPr/>
              </p:nvSpPr>
              <p:spPr>
                <a:xfrm>
                  <a:off x="2122200" y="4619520"/>
                  <a:ext cx="548676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椭圆 39"/>
                <p:cNvSpPr/>
                <p:nvPr/>
              </p:nvSpPr>
              <p:spPr>
                <a:xfrm>
                  <a:off x="1600200" y="4495680"/>
                  <a:ext cx="838080" cy="83844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Box 37"/>
              <p:cNvSpPr/>
              <p:nvPr/>
            </p:nvSpPr>
            <p:spPr>
              <a:xfrm>
                <a:off x="2797200" y="472428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Box 35"/>
            <p:cNvSpPr/>
            <p:nvPr/>
          </p:nvSpPr>
          <p:spPr>
            <a:xfrm>
              <a:off x="1811160" y="4665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椭圆 7"/>
          <p:cNvSpPr/>
          <p:nvPr/>
        </p:nvSpPr>
        <p:spPr>
          <a:xfrm>
            <a:off x="2895480" y="2224080"/>
            <a:ext cx="2971800" cy="2971800"/>
          </a:xfrm>
          <a:prstGeom prst="ellipse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4952880" y="1676520"/>
            <a:ext cx="2765520" cy="942840"/>
            <a:chOff x="4952880" y="1676520"/>
            <a:chExt cx="2765520" cy="942840"/>
          </a:xfrm>
        </p:grpSpPr>
        <p:sp>
          <p:nvSpPr>
            <p:cNvPr id="530" name="圆角矩形 2"/>
            <p:cNvSpPr/>
            <p:nvPr/>
          </p:nvSpPr>
          <p:spPr>
            <a:xfrm>
              <a:off x="4952880" y="167652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11"/>
            <p:cNvSpPr/>
            <p:nvPr/>
          </p:nvSpPr>
          <p:spPr>
            <a:xfrm>
              <a:off x="5230440" y="183924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6"/>
          <p:cNvGrpSpPr/>
          <p:nvPr/>
        </p:nvGrpSpPr>
        <p:grpSpPr>
          <a:xfrm>
            <a:off x="3809880" y="1600200"/>
            <a:ext cx="1328760" cy="1266840"/>
            <a:chOff x="3809880" y="1600200"/>
            <a:chExt cx="1328760" cy="1266840"/>
          </a:xfrm>
        </p:grpSpPr>
        <p:sp>
          <p:nvSpPr>
            <p:cNvPr id="533" name="椭圆 1"/>
            <p:cNvSpPr/>
            <p:nvPr/>
          </p:nvSpPr>
          <p:spPr>
            <a:xfrm>
              <a:off x="3809880" y="160020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6"/>
            <p:cNvSpPr/>
            <p:nvPr/>
          </p:nvSpPr>
          <p:spPr>
            <a:xfrm>
              <a:off x="4100040" y="1919160"/>
              <a:ext cx="10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9"/>
          <p:cNvGrpSpPr/>
          <p:nvPr/>
        </p:nvGrpSpPr>
        <p:grpSpPr>
          <a:xfrm>
            <a:off x="6149880" y="4114800"/>
            <a:ext cx="2765520" cy="942840"/>
            <a:chOff x="6149880" y="4114800"/>
            <a:chExt cx="2765520" cy="942840"/>
          </a:xfrm>
        </p:grpSpPr>
        <p:sp>
          <p:nvSpPr>
            <p:cNvPr id="536" name="圆角矩形 47"/>
            <p:cNvSpPr/>
            <p:nvPr/>
          </p:nvSpPr>
          <p:spPr>
            <a:xfrm>
              <a:off x="6149880" y="411480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48"/>
            <p:cNvSpPr/>
            <p:nvPr/>
          </p:nvSpPr>
          <p:spPr>
            <a:xfrm>
              <a:off x="6427440" y="427752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2"/>
          <p:cNvGrpSpPr/>
          <p:nvPr/>
        </p:nvGrpSpPr>
        <p:grpSpPr>
          <a:xfrm>
            <a:off x="304920" y="4267080"/>
            <a:ext cx="2765160" cy="943200"/>
            <a:chOff x="304920" y="4267080"/>
            <a:chExt cx="2765160" cy="943200"/>
          </a:xfrm>
        </p:grpSpPr>
        <p:sp>
          <p:nvSpPr>
            <p:cNvPr id="539" name="圆角矩形 53"/>
            <p:cNvSpPr/>
            <p:nvPr/>
          </p:nvSpPr>
          <p:spPr>
            <a:xfrm>
              <a:off x="304920" y="4267080"/>
              <a:ext cx="2765160" cy="94320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54"/>
            <p:cNvSpPr/>
            <p:nvPr/>
          </p:nvSpPr>
          <p:spPr>
            <a:xfrm>
              <a:off x="582480" y="442980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5"/>
          <p:cNvGrpSpPr/>
          <p:nvPr/>
        </p:nvGrpSpPr>
        <p:grpSpPr>
          <a:xfrm>
            <a:off x="2684520" y="3809880"/>
            <a:ext cx="1278000" cy="1266840"/>
            <a:chOff x="2684520" y="3809880"/>
            <a:chExt cx="1278000" cy="1266840"/>
          </a:xfrm>
        </p:grpSpPr>
        <p:sp>
          <p:nvSpPr>
            <p:cNvPr id="542" name="椭圆 50"/>
            <p:cNvSpPr/>
            <p:nvPr/>
          </p:nvSpPr>
          <p:spPr>
            <a:xfrm>
              <a:off x="2684520" y="380988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51"/>
            <p:cNvSpPr/>
            <p:nvPr/>
          </p:nvSpPr>
          <p:spPr>
            <a:xfrm>
              <a:off x="2974680" y="413964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8"/>
          <p:cNvGrpSpPr/>
          <p:nvPr/>
        </p:nvGrpSpPr>
        <p:grpSpPr>
          <a:xfrm>
            <a:off x="5029200" y="3838680"/>
            <a:ext cx="1278000" cy="1266840"/>
            <a:chOff x="5029200" y="3838680"/>
            <a:chExt cx="1278000" cy="1266840"/>
          </a:xfrm>
        </p:grpSpPr>
        <p:sp>
          <p:nvSpPr>
            <p:cNvPr id="545" name="椭圆 44"/>
            <p:cNvSpPr/>
            <p:nvPr/>
          </p:nvSpPr>
          <p:spPr>
            <a:xfrm>
              <a:off x="5029200" y="383868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45"/>
            <p:cNvSpPr/>
            <p:nvPr/>
          </p:nvSpPr>
          <p:spPr>
            <a:xfrm>
              <a:off x="5319360" y="416844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533520" y="3581280"/>
            <a:ext cx="2020680" cy="871560"/>
            <a:chOff x="533520" y="3581280"/>
            <a:chExt cx="2020680" cy="871560"/>
          </a:xfrm>
        </p:grpSpPr>
        <p:sp>
          <p:nvSpPr>
            <p:cNvPr id="548" name="圆角矩形 2"/>
            <p:cNvSpPr/>
            <p:nvPr/>
          </p:nvSpPr>
          <p:spPr>
            <a:xfrm>
              <a:off x="533520" y="358128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11"/>
            <p:cNvSpPr/>
            <p:nvPr/>
          </p:nvSpPr>
          <p:spPr>
            <a:xfrm>
              <a:off x="736200" y="379512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0" name="直接箭头连接符 8"/>
          <p:cNvCxnSpPr/>
          <p:nvPr/>
        </p:nvCxnSpPr>
        <p:spPr>
          <a:xfrm>
            <a:off x="685800" y="3428640"/>
            <a:ext cx="7849440" cy="10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551" name="Group 6"/>
          <p:cNvGrpSpPr/>
          <p:nvPr/>
        </p:nvGrpSpPr>
        <p:grpSpPr>
          <a:xfrm>
            <a:off x="982800" y="1828800"/>
            <a:ext cx="1023840" cy="1523880"/>
            <a:chOff x="982800" y="1828800"/>
            <a:chExt cx="1023840" cy="1523880"/>
          </a:xfrm>
        </p:grpSpPr>
        <p:grpSp>
          <p:nvGrpSpPr>
            <p:cNvPr id="552" name="Group 7"/>
            <p:cNvGrpSpPr/>
            <p:nvPr/>
          </p:nvGrpSpPr>
          <p:grpSpPr>
            <a:xfrm>
              <a:off x="982800" y="1828800"/>
              <a:ext cx="1023840" cy="1023120"/>
              <a:chOff x="982800" y="1828800"/>
              <a:chExt cx="1023840" cy="1023120"/>
            </a:xfrm>
          </p:grpSpPr>
          <p:sp>
            <p:nvSpPr>
              <p:cNvPr id="553" name="椭圆 1"/>
              <p:cNvSpPr/>
              <p:nvPr/>
            </p:nvSpPr>
            <p:spPr>
              <a:xfrm>
                <a:off x="982800" y="1828800"/>
                <a:ext cx="102384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Box 6"/>
              <p:cNvSpPr/>
              <p:nvPr/>
            </p:nvSpPr>
            <p:spPr>
              <a:xfrm>
                <a:off x="1112040" y="208620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直接连接符 10"/>
            <p:cNvSpPr/>
            <p:nvPr/>
          </p:nvSpPr>
          <p:spPr>
            <a:xfrm>
              <a:off x="1476360" y="281952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2938320" y="3504960"/>
            <a:ext cx="1024200" cy="1523880"/>
            <a:chOff x="2938320" y="3504960"/>
            <a:chExt cx="1024200" cy="1523880"/>
          </a:xfrm>
        </p:grpSpPr>
        <p:grpSp>
          <p:nvGrpSpPr>
            <p:cNvPr id="557" name="Group 12"/>
            <p:cNvGrpSpPr/>
            <p:nvPr/>
          </p:nvGrpSpPr>
          <p:grpSpPr>
            <a:xfrm>
              <a:off x="2938320" y="4005000"/>
              <a:ext cx="1024200" cy="1023840"/>
              <a:chOff x="2938320" y="4005000"/>
              <a:chExt cx="1024200" cy="1023840"/>
            </a:xfrm>
          </p:grpSpPr>
          <p:sp>
            <p:nvSpPr>
              <p:cNvPr id="558" name="椭圆 30"/>
              <p:cNvSpPr/>
              <p:nvPr/>
            </p:nvSpPr>
            <p:spPr>
              <a:xfrm flipV="1">
                <a:off x="2938320" y="4005000"/>
                <a:ext cx="1024200" cy="10238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Box 31"/>
              <p:cNvSpPr/>
              <p:nvPr/>
            </p:nvSpPr>
            <p:spPr>
              <a:xfrm>
                <a:off x="304776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1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直接连接符 29"/>
            <p:cNvSpPr/>
            <p:nvPr/>
          </p:nvSpPr>
          <p:spPr>
            <a:xfrm flipV="1">
              <a:off x="3432240" y="350496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6"/>
          <p:cNvGrpSpPr/>
          <p:nvPr/>
        </p:nvGrpSpPr>
        <p:grpSpPr>
          <a:xfrm>
            <a:off x="2514600" y="2328840"/>
            <a:ext cx="2021040" cy="871560"/>
            <a:chOff x="2514600" y="2328840"/>
            <a:chExt cx="2021040" cy="871560"/>
          </a:xfrm>
        </p:grpSpPr>
        <p:sp>
          <p:nvSpPr>
            <p:cNvPr id="562" name="圆角矩形 33"/>
            <p:cNvSpPr/>
            <p:nvPr/>
          </p:nvSpPr>
          <p:spPr>
            <a:xfrm>
              <a:off x="2514600" y="232884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4"/>
            <p:cNvSpPr/>
            <p:nvPr/>
          </p:nvSpPr>
          <p:spPr>
            <a:xfrm>
              <a:off x="2717280" y="254268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9"/>
          <p:cNvGrpSpPr/>
          <p:nvPr/>
        </p:nvGrpSpPr>
        <p:grpSpPr>
          <a:xfrm>
            <a:off x="4419720" y="3657600"/>
            <a:ext cx="2020680" cy="871560"/>
            <a:chOff x="4419720" y="3657600"/>
            <a:chExt cx="2020680" cy="871560"/>
          </a:xfrm>
        </p:grpSpPr>
        <p:sp>
          <p:nvSpPr>
            <p:cNvPr id="565" name="圆角矩形 36"/>
            <p:cNvSpPr/>
            <p:nvPr/>
          </p:nvSpPr>
          <p:spPr>
            <a:xfrm>
              <a:off x="4419720" y="365760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7"/>
            <p:cNvSpPr/>
            <p:nvPr/>
          </p:nvSpPr>
          <p:spPr>
            <a:xfrm>
              <a:off x="4622400" y="387144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22"/>
          <p:cNvGrpSpPr/>
          <p:nvPr/>
        </p:nvGrpSpPr>
        <p:grpSpPr>
          <a:xfrm>
            <a:off x="4869000" y="1828800"/>
            <a:ext cx="1023840" cy="1523880"/>
            <a:chOff x="4869000" y="1828800"/>
            <a:chExt cx="1023840" cy="1523880"/>
          </a:xfrm>
        </p:grpSpPr>
        <p:grpSp>
          <p:nvGrpSpPr>
            <p:cNvPr id="568" name="Group 23"/>
            <p:cNvGrpSpPr/>
            <p:nvPr/>
          </p:nvGrpSpPr>
          <p:grpSpPr>
            <a:xfrm>
              <a:off x="4869000" y="1828800"/>
              <a:ext cx="1023840" cy="1023120"/>
              <a:chOff x="4869000" y="1828800"/>
              <a:chExt cx="1023840" cy="1023120"/>
            </a:xfrm>
          </p:grpSpPr>
          <p:sp>
            <p:nvSpPr>
              <p:cNvPr id="569" name="椭圆 41"/>
              <p:cNvSpPr/>
              <p:nvPr/>
            </p:nvSpPr>
            <p:spPr>
              <a:xfrm>
                <a:off x="4869000" y="1828800"/>
                <a:ext cx="102384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Box 42"/>
              <p:cNvSpPr/>
              <p:nvPr/>
            </p:nvSpPr>
            <p:spPr>
              <a:xfrm>
                <a:off x="4998240" y="208620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直接连接符 40"/>
            <p:cNvSpPr/>
            <p:nvPr/>
          </p:nvSpPr>
          <p:spPr>
            <a:xfrm>
              <a:off x="5362560" y="281952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7"/>
          <p:cNvGrpSpPr/>
          <p:nvPr/>
        </p:nvGrpSpPr>
        <p:grpSpPr>
          <a:xfrm>
            <a:off x="7010280" y="3504960"/>
            <a:ext cx="1024200" cy="1523880"/>
            <a:chOff x="7010280" y="3504960"/>
            <a:chExt cx="1024200" cy="1523880"/>
          </a:xfrm>
        </p:grpSpPr>
        <p:grpSp>
          <p:nvGrpSpPr>
            <p:cNvPr id="573" name="Group 28"/>
            <p:cNvGrpSpPr/>
            <p:nvPr/>
          </p:nvGrpSpPr>
          <p:grpSpPr>
            <a:xfrm>
              <a:off x="7010280" y="4005720"/>
              <a:ext cx="1024200" cy="1023120"/>
              <a:chOff x="7010280" y="4005720"/>
              <a:chExt cx="1024200" cy="1023120"/>
            </a:xfrm>
          </p:grpSpPr>
          <p:sp>
            <p:nvSpPr>
              <p:cNvPr id="574" name="椭圆 59"/>
              <p:cNvSpPr/>
              <p:nvPr/>
            </p:nvSpPr>
            <p:spPr>
              <a:xfrm flipV="1">
                <a:off x="7010280" y="4005720"/>
                <a:ext cx="102420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Box 60"/>
              <p:cNvSpPr/>
              <p:nvPr/>
            </p:nvSpPr>
            <p:spPr>
              <a:xfrm>
                <a:off x="713952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直接连接符 58"/>
            <p:cNvSpPr/>
            <p:nvPr/>
          </p:nvSpPr>
          <p:spPr>
            <a:xfrm flipV="1">
              <a:off x="7504200" y="350496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32"/>
          <p:cNvGrpSpPr/>
          <p:nvPr/>
        </p:nvGrpSpPr>
        <p:grpSpPr>
          <a:xfrm>
            <a:off x="6586560" y="2252520"/>
            <a:ext cx="2021040" cy="871560"/>
            <a:chOff x="6586560" y="2252520"/>
            <a:chExt cx="2021040" cy="871560"/>
          </a:xfrm>
        </p:grpSpPr>
        <p:sp>
          <p:nvSpPr>
            <p:cNvPr id="578" name="圆角矩形 62"/>
            <p:cNvSpPr/>
            <p:nvPr/>
          </p:nvSpPr>
          <p:spPr>
            <a:xfrm>
              <a:off x="6586560" y="225252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63"/>
            <p:cNvSpPr/>
            <p:nvPr/>
          </p:nvSpPr>
          <p:spPr>
            <a:xfrm>
              <a:off x="6789240" y="246636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3852720" y="3835440"/>
            <a:ext cx="1405080" cy="1404720"/>
            <a:chOff x="3852720" y="3835440"/>
            <a:chExt cx="1405080" cy="1404720"/>
          </a:xfrm>
        </p:grpSpPr>
        <p:sp>
          <p:nvSpPr>
            <p:cNvPr id="581" name="椭圆 1"/>
            <p:cNvSpPr/>
            <p:nvPr/>
          </p:nvSpPr>
          <p:spPr>
            <a:xfrm>
              <a:off x="3852720" y="3835440"/>
              <a:ext cx="1405080" cy="140472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6"/>
            <p:cNvSpPr/>
            <p:nvPr/>
          </p:nvSpPr>
          <p:spPr>
            <a:xfrm>
              <a:off x="4030200" y="43711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5"/>
          <p:cNvGrpSpPr/>
          <p:nvPr/>
        </p:nvGrpSpPr>
        <p:grpSpPr>
          <a:xfrm>
            <a:off x="1371600" y="3429000"/>
            <a:ext cx="1143000" cy="1143000"/>
            <a:chOff x="1371600" y="3429000"/>
            <a:chExt cx="1143000" cy="1143000"/>
          </a:xfrm>
        </p:grpSpPr>
        <p:sp>
          <p:nvSpPr>
            <p:cNvPr id="584" name="椭圆 50"/>
            <p:cNvSpPr/>
            <p:nvPr/>
          </p:nvSpPr>
          <p:spPr>
            <a:xfrm>
              <a:off x="1371600" y="342900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51"/>
            <p:cNvSpPr/>
            <p:nvPr/>
          </p:nvSpPr>
          <p:spPr>
            <a:xfrm>
              <a:off x="1515960" y="37335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8"/>
          <p:cNvGrpSpPr/>
          <p:nvPr/>
        </p:nvGrpSpPr>
        <p:grpSpPr>
          <a:xfrm>
            <a:off x="2895480" y="2133720"/>
            <a:ext cx="1143000" cy="1143000"/>
            <a:chOff x="2895480" y="2133720"/>
            <a:chExt cx="1143000" cy="1143000"/>
          </a:xfrm>
        </p:grpSpPr>
        <p:sp>
          <p:nvSpPr>
            <p:cNvPr id="587" name="椭圆 53"/>
            <p:cNvSpPr/>
            <p:nvPr/>
          </p:nvSpPr>
          <p:spPr>
            <a:xfrm>
              <a:off x="2895480" y="213372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54"/>
            <p:cNvSpPr/>
            <p:nvPr/>
          </p:nvSpPr>
          <p:spPr>
            <a:xfrm>
              <a:off x="3039840" y="24382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1"/>
          <p:cNvGrpSpPr/>
          <p:nvPr/>
        </p:nvGrpSpPr>
        <p:grpSpPr>
          <a:xfrm>
            <a:off x="5029200" y="2133720"/>
            <a:ext cx="1143000" cy="1143000"/>
            <a:chOff x="5029200" y="2133720"/>
            <a:chExt cx="1143000" cy="1143000"/>
          </a:xfrm>
        </p:grpSpPr>
        <p:sp>
          <p:nvSpPr>
            <p:cNvPr id="590" name="椭圆 65"/>
            <p:cNvSpPr/>
            <p:nvPr/>
          </p:nvSpPr>
          <p:spPr>
            <a:xfrm>
              <a:off x="5029200" y="213372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66"/>
            <p:cNvSpPr/>
            <p:nvPr/>
          </p:nvSpPr>
          <p:spPr>
            <a:xfrm>
              <a:off x="5173560" y="24382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4"/>
          <p:cNvGrpSpPr/>
          <p:nvPr/>
        </p:nvGrpSpPr>
        <p:grpSpPr>
          <a:xfrm>
            <a:off x="6477120" y="3429000"/>
            <a:ext cx="1143000" cy="1143000"/>
            <a:chOff x="6477120" y="3429000"/>
            <a:chExt cx="1143000" cy="1143000"/>
          </a:xfrm>
        </p:grpSpPr>
        <p:sp>
          <p:nvSpPr>
            <p:cNvPr id="593" name="椭圆 68"/>
            <p:cNvSpPr/>
            <p:nvPr/>
          </p:nvSpPr>
          <p:spPr>
            <a:xfrm>
              <a:off x="6477120" y="342900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69"/>
            <p:cNvSpPr/>
            <p:nvPr/>
          </p:nvSpPr>
          <p:spPr>
            <a:xfrm>
              <a:off x="6621480" y="37335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5" name="直接箭头连接符 7"/>
          <p:cNvCxnSpPr>
            <a:stCxn id="581" idx="2"/>
          </p:cNvCxnSpPr>
          <p:nvPr/>
        </p:nvCxnSpPr>
        <p:spPr>
          <a:xfrm flipH="1" flipV="1">
            <a:off x="2542680" y="4190400"/>
            <a:ext cx="1310400" cy="34668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596" name="直接箭头连接符 13"/>
          <p:cNvCxnSpPr/>
          <p:nvPr/>
        </p:nvCxnSpPr>
        <p:spPr>
          <a:xfrm flipH="1" flipV="1">
            <a:off x="3657240" y="3199680"/>
            <a:ext cx="534240" cy="7628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597" name="直接箭头连接符 16"/>
          <p:cNvCxnSpPr>
            <a:stCxn id="581" idx="7"/>
          </p:cNvCxnSpPr>
          <p:nvPr/>
        </p:nvCxnSpPr>
        <p:spPr>
          <a:xfrm flipV="1">
            <a:off x="5051520" y="3199680"/>
            <a:ext cx="358920" cy="8420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598" name="直接箭头连接符 18"/>
          <p:cNvCxnSpPr/>
          <p:nvPr/>
        </p:nvCxnSpPr>
        <p:spPr>
          <a:xfrm flipV="1">
            <a:off x="5257800" y="4190760"/>
            <a:ext cx="1296000" cy="38160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599" name="TextBox 76"/>
          <p:cNvSpPr/>
          <p:nvPr/>
        </p:nvSpPr>
        <p:spPr>
          <a:xfrm>
            <a:off x="279360" y="29131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77"/>
          <p:cNvSpPr/>
          <p:nvPr/>
        </p:nvSpPr>
        <p:spPr>
          <a:xfrm>
            <a:off x="1805040" y="15238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78"/>
          <p:cNvSpPr/>
          <p:nvPr/>
        </p:nvSpPr>
        <p:spPr>
          <a:xfrm>
            <a:off x="5867280" y="16002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79"/>
          <p:cNvSpPr/>
          <p:nvPr/>
        </p:nvSpPr>
        <p:spPr>
          <a:xfrm>
            <a:off x="7315200" y="30481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304920" y="1523880"/>
            <a:ext cx="8636040" cy="3461040"/>
            <a:chOff x="304920" y="1523880"/>
            <a:chExt cx="8636040" cy="3461040"/>
          </a:xfrm>
        </p:grpSpPr>
        <p:grpSp>
          <p:nvGrpSpPr>
            <p:cNvPr id="604" name="Group 3"/>
            <p:cNvGrpSpPr/>
            <p:nvPr/>
          </p:nvGrpSpPr>
          <p:grpSpPr>
            <a:xfrm>
              <a:off x="3305880" y="1523880"/>
              <a:ext cx="2256840" cy="627480"/>
              <a:chOff x="3305880" y="1523880"/>
              <a:chExt cx="2256840" cy="627480"/>
            </a:xfrm>
          </p:grpSpPr>
          <p:sp>
            <p:nvSpPr>
              <p:cNvPr id="605" name="圆角矩形 25"/>
              <p:cNvSpPr/>
              <p:nvPr/>
            </p:nvSpPr>
            <p:spPr>
              <a:xfrm>
                <a:off x="3305880" y="152388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Box 26"/>
              <p:cNvSpPr/>
              <p:nvPr/>
            </p:nvSpPr>
            <p:spPr>
              <a:xfrm>
                <a:off x="3559320" y="1626120"/>
                <a:ext cx="182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"/>
            <p:cNvGrpSpPr/>
            <p:nvPr/>
          </p:nvGrpSpPr>
          <p:grpSpPr>
            <a:xfrm>
              <a:off x="1455120" y="2815200"/>
              <a:ext cx="2256840" cy="627480"/>
              <a:chOff x="1455120" y="2815200"/>
              <a:chExt cx="2256840" cy="627480"/>
            </a:xfrm>
          </p:grpSpPr>
          <p:sp>
            <p:nvSpPr>
              <p:cNvPr id="608" name="圆角矩形 29"/>
              <p:cNvSpPr/>
              <p:nvPr/>
            </p:nvSpPr>
            <p:spPr>
              <a:xfrm>
                <a:off x="1455120" y="28152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Box 30"/>
              <p:cNvSpPr/>
              <p:nvPr/>
            </p:nvSpPr>
            <p:spPr>
              <a:xfrm>
                <a:off x="1707840" y="291672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9"/>
            <p:cNvGrpSpPr/>
            <p:nvPr/>
          </p:nvGrpSpPr>
          <p:grpSpPr>
            <a:xfrm>
              <a:off x="5036760" y="2815200"/>
              <a:ext cx="2256840" cy="627480"/>
              <a:chOff x="5036760" y="2815200"/>
              <a:chExt cx="2256840" cy="627480"/>
            </a:xfrm>
          </p:grpSpPr>
          <p:sp>
            <p:nvSpPr>
              <p:cNvPr id="611" name="圆角矩形 32"/>
              <p:cNvSpPr/>
              <p:nvPr/>
            </p:nvSpPr>
            <p:spPr>
              <a:xfrm>
                <a:off x="5036760" y="28152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Box 33"/>
              <p:cNvSpPr/>
              <p:nvPr/>
            </p:nvSpPr>
            <p:spPr>
              <a:xfrm>
                <a:off x="5289480" y="291672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12"/>
            <p:cNvGrpSpPr/>
            <p:nvPr/>
          </p:nvGrpSpPr>
          <p:grpSpPr>
            <a:xfrm>
              <a:off x="304920" y="4357440"/>
              <a:ext cx="1854000" cy="627480"/>
              <a:chOff x="304920" y="4357440"/>
              <a:chExt cx="1854000" cy="627480"/>
            </a:xfrm>
          </p:grpSpPr>
          <p:sp>
            <p:nvSpPr>
              <p:cNvPr id="614" name="圆角矩形 35"/>
              <p:cNvSpPr/>
              <p:nvPr/>
            </p:nvSpPr>
            <p:spPr>
              <a:xfrm>
                <a:off x="30492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Box 36"/>
              <p:cNvSpPr/>
              <p:nvPr/>
            </p:nvSpPr>
            <p:spPr>
              <a:xfrm>
                <a:off x="51300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5"/>
            <p:cNvGrpSpPr/>
            <p:nvPr/>
          </p:nvGrpSpPr>
          <p:grpSpPr>
            <a:xfrm>
              <a:off x="2565360" y="4357440"/>
              <a:ext cx="1854000" cy="627480"/>
              <a:chOff x="2565360" y="4357440"/>
              <a:chExt cx="1854000" cy="627480"/>
            </a:xfrm>
          </p:grpSpPr>
          <p:sp>
            <p:nvSpPr>
              <p:cNvPr id="617" name="圆角矩形 38"/>
              <p:cNvSpPr/>
              <p:nvPr/>
            </p:nvSpPr>
            <p:spPr>
              <a:xfrm>
                <a:off x="25653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9"/>
              <p:cNvSpPr/>
              <p:nvPr/>
            </p:nvSpPr>
            <p:spPr>
              <a:xfrm>
                <a:off x="27734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8"/>
            <p:cNvGrpSpPr/>
            <p:nvPr/>
          </p:nvGrpSpPr>
          <p:grpSpPr>
            <a:xfrm>
              <a:off x="4826160" y="4357440"/>
              <a:ext cx="1854000" cy="627480"/>
              <a:chOff x="4826160" y="4357440"/>
              <a:chExt cx="1854000" cy="627480"/>
            </a:xfrm>
          </p:grpSpPr>
          <p:sp>
            <p:nvSpPr>
              <p:cNvPr id="620" name="圆角矩形 41"/>
              <p:cNvSpPr/>
              <p:nvPr/>
            </p:nvSpPr>
            <p:spPr>
              <a:xfrm>
                <a:off x="48261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Box 42"/>
              <p:cNvSpPr/>
              <p:nvPr/>
            </p:nvSpPr>
            <p:spPr>
              <a:xfrm>
                <a:off x="50342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21"/>
            <p:cNvGrpSpPr/>
            <p:nvPr/>
          </p:nvGrpSpPr>
          <p:grpSpPr>
            <a:xfrm>
              <a:off x="7086960" y="4357440"/>
              <a:ext cx="1854000" cy="627480"/>
              <a:chOff x="7086960" y="4357440"/>
              <a:chExt cx="1854000" cy="627480"/>
            </a:xfrm>
          </p:grpSpPr>
          <p:sp>
            <p:nvSpPr>
              <p:cNvPr id="623" name="圆角矩形 44"/>
              <p:cNvSpPr/>
              <p:nvPr/>
            </p:nvSpPr>
            <p:spPr>
              <a:xfrm>
                <a:off x="70869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5"/>
              <p:cNvSpPr/>
              <p:nvPr/>
            </p:nvSpPr>
            <p:spPr>
              <a:xfrm>
                <a:off x="72950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5" name="肘形连接符 9"/>
            <p:cNvCxnSpPr>
              <a:stCxn id="605" idx="2"/>
              <a:endCxn id="608" idx="0"/>
            </p:cNvCxnSpPr>
            <p:nvPr/>
          </p:nvCxnSpPr>
          <p:spPr>
            <a:xfrm rot="5400000">
              <a:off x="3175200" y="1558080"/>
              <a:ext cx="665640" cy="185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6" name="肘形连接符 11"/>
            <p:cNvCxnSpPr>
              <a:stCxn id="605" idx="2"/>
              <a:endCxn id="611" idx="0"/>
            </p:cNvCxnSpPr>
            <p:nvPr/>
          </p:nvCxnSpPr>
          <p:spPr>
            <a:xfrm flipH="1" rot="16200000">
              <a:off x="4966560" y="1618200"/>
              <a:ext cx="665640" cy="173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7" name="肘形连接符 15"/>
            <p:cNvCxnSpPr>
              <a:stCxn id="608" idx="2"/>
              <a:endCxn id="614" idx="0"/>
            </p:cNvCxnSpPr>
            <p:nvPr/>
          </p:nvCxnSpPr>
          <p:spPr>
            <a:xfrm rot="5400000">
              <a:off x="1450080" y="3224160"/>
              <a:ext cx="914760" cy="13521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8" name="肘形连接符 19"/>
            <p:cNvCxnSpPr>
              <a:stCxn id="608" idx="2"/>
              <a:endCxn id="617" idx="0"/>
            </p:cNvCxnSpPr>
            <p:nvPr/>
          </p:nvCxnSpPr>
          <p:spPr>
            <a:xfrm flipH="1" rot="16200000">
              <a:off x="2580840" y="3445200"/>
              <a:ext cx="914760" cy="909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9" name="肘形连接符 21"/>
            <p:cNvCxnSpPr>
              <a:stCxn id="611" idx="2"/>
              <a:endCxn id="620" idx="0"/>
            </p:cNvCxnSpPr>
            <p:nvPr/>
          </p:nvCxnSpPr>
          <p:spPr>
            <a:xfrm rot="5400000">
              <a:off x="5501520" y="3693960"/>
              <a:ext cx="914760" cy="4125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30" name="肘形连接符 23"/>
            <p:cNvCxnSpPr>
              <a:stCxn id="611" idx="2"/>
              <a:endCxn id="623" idx="0"/>
            </p:cNvCxnSpPr>
            <p:nvPr/>
          </p:nvCxnSpPr>
          <p:spPr>
            <a:xfrm flipH="1" rot="16200000">
              <a:off x="6631200" y="2975400"/>
              <a:ext cx="914760" cy="18493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2"/>
          <p:cNvSpPr/>
          <p:nvPr/>
        </p:nvSpPr>
        <p:spPr>
          <a:xfrm>
            <a:off x="6400800" y="21337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迷你简硬笔楷书"/>
                <a:ea typeface="迷你简硬笔楷书"/>
              </a:rPr>
              <a:t>谢 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3:07:49Z</dcterms:created>
  <dc:creator>锐得PPT论坛鲁果1986</dc:creator>
  <dc:description>http://bbs.ruideppt.com/forum.php</dc:description>
  <cp:keywords>鲁果1986原创</cp:keywords>
  <dc:language>en-US</dc:language>
  <cp:lastModifiedBy>Administrator</cp:lastModifiedBy>
  <dcterms:modified xsi:type="dcterms:W3CDTF">2017-07-13T17:54:58Z</dcterms:modified>
  <cp:revision>33</cp:revision>
  <dc:subject/>
  <dc:title>幸运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Version">
    <vt:r8>1</vt:r8>
  </property>
</Properties>
</file>